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03DAC-D046-4DD4-AD86-5E44F46E8F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87216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79470-959E-4AB6-BC8D-61A6A4CBDF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423E4-239D-4C19-90A6-33D1269250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CEFBD-1D30-4435-86F5-B35B9AF223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43C84-4B3B-4106-B2CE-CCC11869DA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BCB1A-5ECB-4830-8D10-30D9497278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51725-D192-4CEA-8301-CF6A4D4C5A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15F80-2FD3-46FC-8EC8-E4832CE906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8960" y="609480"/>
            <a:ext cx="708660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C0E9C-9871-415B-86F6-A8B423CD75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2F1AA-FA53-475F-BC70-7B8CC1E722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ADE94-CE8F-4F94-A2F5-F036E089B3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2B18E-1A90-4887-A269-4FA9557CC2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2286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07696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-</a:t>
            </a:r>
            <a:fld id="{4FA77A15-3457-49F8-A43A-79068A617C6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3"/>
          <p:cNvSpPr/>
          <p:nvPr/>
        </p:nvSpPr>
        <p:spPr>
          <a:xfrm>
            <a:off x="380880" y="646200"/>
            <a:ext cx="609840" cy="503280"/>
          </a:xfrm>
          <a:prstGeom prst="rect">
            <a:avLst/>
          </a:prstGeom>
          <a:solidFill>
            <a:srgbClr val="ed6b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7.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ooter Placeholder 2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lide Number Placeholder 3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-</a:t>
            </a:r>
            <a:fld id="{82CAEE1D-42BE-4823-BAE7-7F98BE975A3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5438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omparative and superlative of adjectives and adverb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3"/>
          <p:cNvSpPr/>
          <p:nvPr/>
        </p:nvSpPr>
        <p:spPr>
          <a:xfrm>
            <a:off x="4015080" y="4006800"/>
            <a:ext cx="48362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ce concentré de tout ce que l’être hu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vait créer de </a:t>
            </a:r>
            <a:r>
              <a:rPr b="1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us formidable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5" descr=""/>
          <p:cNvPicPr/>
          <p:nvPr/>
        </p:nvPicPr>
        <p:blipFill>
          <a:blip r:embed="rId1"/>
          <a:stretch/>
        </p:blipFill>
        <p:spPr>
          <a:xfrm>
            <a:off x="533520" y="2093760"/>
            <a:ext cx="3359160" cy="26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-</a:t>
            </a:r>
            <a:fld id="{4FCF84C4-9082-4B68-8213-D8029F61450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adverbs are invariable, the definite article used in the superlative is alway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538200" y="2692440"/>
          <a:ext cx="8377200" cy="2870280"/>
        </p:xfrm>
        <a:graphic>
          <a:graphicData uri="http://schemas.openxmlformats.org/drawingml/2006/table">
            <a:tbl>
              <a:tblPr/>
              <a:tblGrid>
                <a:gridCol w="4186080"/>
                <a:gridCol w="4191120"/>
              </a:tblGrid>
              <a:tr h="2870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’est Laure et moi qui travaillons </a:t>
                      </a:r>
                      <a:br>
                        <a:rPr sz="2100"/>
                      </a:b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 plus sérieusement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ure and I work the most seriously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’est mon frère qui conduit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 moins patiemment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y brother drives the least patiently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Rectangle 15"/>
          <p:cNvSpPr/>
          <p:nvPr/>
        </p:nvSpPr>
        <p:spPr>
          <a:xfrm>
            <a:off x="1219320" y="609480"/>
            <a:ext cx="777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The comparative and superlative of adjectives and adverb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-</a:t>
            </a:r>
            <a:fld id="{6816773B-777E-4A4D-A5A3-961D4398474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dverb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irregular comparative and superlative 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4"/>
          <p:cNvSpPr/>
          <p:nvPr/>
        </p:nvSpPr>
        <p:spPr>
          <a:xfrm>
            <a:off x="609480" y="2590920"/>
            <a:ext cx="7925040" cy="2286000"/>
          </a:xfrm>
          <a:prstGeom prst="roundRect">
            <a:avLst>
              <a:gd name="adj" fmla="val 22347"/>
            </a:avLst>
          </a:prstGeom>
          <a:solidFill>
            <a:srgbClr val="fff0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609480" y="3505320"/>
            <a:ext cx="7925040" cy="1523880"/>
          </a:xfrm>
          <a:prstGeom prst="roundRect">
            <a:avLst>
              <a:gd name="adj" fmla="val 22347"/>
            </a:avLst>
          </a:prstGeom>
          <a:solidFill>
            <a:srgbClr val="fef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609480" y="3095640"/>
            <a:ext cx="7925040" cy="914400"/>
          </a:xfrm>
          <a:prstGeom prst="rect">
            <a:avLst/>
          </a:prstGeom>
          <a:solidFill>
            <a:srgbClr val="fef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2666880"/>
          <a:ext cx="7543800" cy="2362320"/>
        </p:xfrm>
        <a:graphic>
          <a:graphicData uri="http://schemas.openxmlformats.org/drawingml/2006/table">
            <a:tbl>
              <a:tblPr/>
              <a:tblGrid>
                <a:gridCol w="1828800"/>
                <a:gridCol w="2819520"/>
                <a:gridCol w="289548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 algn="ctr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erb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 algn="ctr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rativ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 algn="ctr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lativ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2120">
                <a:tc>
                  <a:txBody>
                    <a:bodyPr lIns="90000" rIns="90000" tIns="137160" bIns="46800" anchor="t">
                      <a:noAutofit/>
                    </a:bodyPr>
                    <a:p>
                      <a:pPr marL="114480">
                        <a:spcAft>
                          <a:spcPts val="12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en </a:t>
                      </a:r>
                      <a:br>
                        <a:rPr sz="2000"/>
                      </a:b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2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</a:t>
                      </a:r>
                      <a:br>
                        <a:rPr sz="2000"/>
                      </a:b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d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5da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37160" bIns="46800" anchor="t">
                      <a:noAutofit/>
                    </a:bodyPr>
                    <a:p>
                      <a:pPr marL="114480">
                        <a:spcAft>
                          <a:spcPts val="12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eux</a:t>
                      </a:r>
                      <a:br>
                        <a:rPr sz="2000"/>
                      </a:b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2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s mal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eldom used)</a:t>
                      </a:r>
                      <a:br>
                        <a:rPr sz="2000"/>
                      </a:b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5da9"/>
                      </a:solidFill>
                    </a:lnL>
                    <a:lnR w="13680">
                      <a:solidFill>
                        <a:srgbClr val="005da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37160" bIns="46800" anchor="t">
                      <a:noAutofit/>
                    </a:bodyPr>
                    <a:p>
                      <a:pPr marL="114480">
                        <a:spcAft>
                          <a:spcPts val="12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 mieux</a:t>
                      </a:r>
                      <a:br>
                        <a:rPr sz="2000"/>
                      </a:b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b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2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 plus mal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 pi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eldom used)</a:t>
                      </a:r>
                      <a:br>
                        <a:rPr sz="2000"/>
                      </a:b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wo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5da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Rectangle 38"/>
          <p:cNvSpPr/>
          <p:nvPr/>
        </p:nvSpPr>
        <p:spPr>
          <a:xfrm>
            <a:off x="1219320" y="609480"/>
            <a:ext cx="777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The comparative and superlative of adjectives and adverb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80880" y="5270400"/>
          <a:ext cx="8382240" cy="1130400"/>
        </p:xfrm>
        <a:graphic>
          <a:graphicData uri="http://schemas.openxmlformats.org/drawingml/2006/table">
            <a:tbl>
              <a:tblPr/>
              <a:tblGrid>
                <a:gridCol w="4157640"/>
                <a:gridCol w="4224600"/>
              </a:tblGrid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t outil-ci marche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eux que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lui-là.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is tool works better than that on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’est cet outil-là qui marche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 plus mal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</a:t>
                      </a:r>
                      <a:br>
                        <a:rPr sz="2100"/>
                      </a:b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at tool works the wors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2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-</a:t>
            </a:r>
            <a:fld id="{A8B4A77B-BA05-40C2-B8E9-B04F6CB3854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23960" y="1571760"/>
          <a:ext cx="7696080" cy="3228840"/>
        </p:xfrm>
        <a:graphic>
          <a:graphicData uri="http://schemas.openxmlformats.org/drawingml/2006/table">
            <a:tbl>
              <a:tblPr/>
              <a:tblGrid>
                <a:gridCol w="2514600"/>
                <a:gridCol w="2666880"/>
                <a:gridCol w="2514600"/>
              </a:tblGrid>
              <a:tr h="444240">
                <a:tc>
                  <a:txBody>
                    <a:bodyPr lIns="0" rIns="0" tIns="0" bIns="0" anchor="t">
                      <a:noAutofit/>
                    </a:bodyPr>
                    <a:p>
                      <a:pPr marL="228600" indent="-228600" algn="ctr"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ec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spcAft>
                          <a:spcPts val="13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ATTENTION!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38160">
                      <a:solidFill>
                        <a:srgbClr val="e6d099"/>
                      </a:solidFill>
                    </a:lnB>
                    <a:solidFill>
                      <a:srgbClr val="ed6b4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8600" indent="-228600" algn="ctr"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ec6"/>
                    </a:solidFill>
                  </a:tcPr>
                </a:tc>
              </a:tr>
              <a:tr h="2784600">
                <a:tc gridSpan="3">
                  <a:txBody>
                    <a:bodyPr lIns="228600" rIns="228600" tIns="228600" bIns="137160" anchor="t">
                      <a:noAutofit/>
                    </a:bodyPr>
                    <a:p>
                      <a:pPr>
                        <a:spcAft>
                          <a:spcPts val="19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 careful not to confuse the adjectives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n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and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uvais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d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with the adverbs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en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ll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and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dly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19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chanson est bonne/mauvaise. </a:t>
                      </a:r>
                      <a:br>
                        <a:rPr sz="2100"/>
                      </a:b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song is good/bad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e chante bien/mal. </a:t>
                      </a:r>
                      <a:br>
                        <a:rPr sz="2100"/>
                      </a:b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sings well/badly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8600" marR="2286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e6d099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eee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5" name="Rectangle 25"/>
          <p:cNvSpPr/>
          <p:nvPr/>
        </p:nvSpPr>
        <p:spPr>
          <a:xfrm>
            <a:off x="1219320" y="609480"/>
            <a:ext cx="769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The comparative and superlative of adjectives and adverb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-</a:t>
            </a:r>
            <a:fld id="{331C8F54-2545-4E61-99A3-31FD95DCB40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2232720" y="4159080"/>
            <a:ext cx="4629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C’est Léonie qui joue 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le mieux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du viol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8"/>
          <p:cNvSpPr/>
          <p:nvPr/>
        </p:nvSpPr>
        <p:spPr>
          <a:xfrm>
            <a:off x="1219320" y="609480"/>
            <a:ext cx="777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The comparative and superlative of adjectives and adverb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9" descr="DAC3_p237"/>
          <p:cNvPicPr/>
          <p:nvPr/>
        </p:nvPicPr>
        <p:blipFill>
          <a:blip r:embed="rId1"/>
          <a:stretch/>
        </p:blipFill>
        <p:spPr>
          <a:xfrm>
            <a:off x="2522520" y="1709640"/>
            <a:ext cx="4048200" cy="24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-</a:t>
            </a:r>
            <a:fld id="{C0DBE71E-DDED-48E1-BF86-16B95AB6B5C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5716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da9"/>
                </a:solidFill>
                <a:latin typeface="Arial"/>
              </a:rPr>
              <a:t>Ad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make comparisons between people or things, plac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u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in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ss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before the adjective,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a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fter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5438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omparative and superlative of adjectives and adverb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85800" y="3557520"/>
          <a:ext cx="8350200" cy="2427480"/>
        </p:xfrm>
        <a:graphic>
          <a:graphicData uri="http://schemas.openxmlformats.org/drawingml/2006/table">
            <a:tbl>
              <a:tblPr/>
              <a:tblGrid>
                <a:gridCol w="4030560"/>
                <a:gridCol w="4319640"/>
              </a:tblGrid>
              <a:tr h="16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tte invention est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us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novante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e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 précédent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is invention is more innovative than the previous on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s planètes Uranus et Neptune sont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ins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umineuses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e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s étoiles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planets Uranus and Neptune are less bright than stars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03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 moteur de recherche est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ssi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ficace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e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lui-là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is search engine is as efficient as that on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2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-</a:t>
            </a:r>
            <a:fld id="{7427F54D-9093-40CF-B375-875AC91200A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723960" y="1828800"/>
          <a:ext cx="7696080" cy="1781280"/>
        </p:xfrm>
        <a:graphic>
          <a:graphicData uri="http://schemas.openxmlformats.org/drawingml/2006/table">
            <a:tbl>
              <a:tblPr/>
              <a:tblGrid>
                <a:gridCol w="2514600"/>
                <a:gridCol w="2666880"/>
                <a:gridCol w="2514600"/>
              </a:tblGrid>
              <a:tr h="425520">
                <a:tc>
                  <a:txBody>
                    <a:bodyPr lIns="0" rIns="0" tIns="0" bIns="0" anchor="t">
                      <a:noAutofit/>
                    </a:bodyPr>
                    <a:p>
                      <a:pPr marL="228600" indent="-228600" algn="ctr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ec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ATTENTION!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38160">
                      <a:solidFill>
                        <a:srgbClr val="e6d099"/>
                      </a:solidFill>
                    </a:lnB>
                    <a:solidFill>
                      <a:srgbClr val="ed6b4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8600" indent="-228600" algn="ctr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ec6"/>
                    </a:solidFill>
                  </a:tcPr>
                </a:tc>
              </a:tr>
              <a:tr h="1355760">
                <a:tc gridSpan="3">
                  <a:txBody>
                    <a:bodyPr lIns="228600" rIns="228600" tIns="228600" bIns="137160" anchor="t">
                      <a:noAutofit/>
                    </a:bodyPr>
                    <a:p>
                      <a:pPr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ember that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comes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’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fore a vowel sound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oline est plus jeune qu’Ousman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8600" marR="2286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e6d099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eee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769608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comparative and superlative of adjectives and adverb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-</a:t>
            </a:r>
            <a:fld id="{1C3A254C-7D5F-4588-88B4-956D222EB77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 the superlative by using the appropriate definite article along with the comparative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519120" y="2692440"/>
          <a:ext cx="8244000" cy="2870280"/>
        </p:xfrm>
        <a:graphic>
          <a:graphicData uri="http://schemas.openxmlformats.org/drawingml/2006/table">
            <a:tbl>
              <a:tblPr/>
              <a:tblGrid>
                <a:gridCol w="4205160"/>
                <a:gridCol w="4038840"/>
              </a:tblGrid>
              <a:tr h="2870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’est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’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dinateur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 plus rapid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 la faculté de médecin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 is the fastest compute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the medical school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’est elle qui a proposé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éori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 plus révolutionnair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e proposed the mos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volutionary theory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Rectangle 18"/>
          <p:cNvSpPr/>
          <p:nvPr/>
        </p:nvSpPr>
        <p:spPr>
          <a:xfrm>
            <a:off x="1219320" y="609480"/>
            <a:ext cx="769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The comparative and superlative of adjectives and adverb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-</a:t>
            </a:r>
            <a:fld id="{B7221024-2B0B-4E88-B784-04FD99BC530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posi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ing the superlative mean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2383560" y="5079960"/>
            <a:ext cx="43898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Voici 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la meilleure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nvention 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du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ond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1219320" y="609480"/>
            <a:ext cx="769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The comparative and superlative of adjectives and adverb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DAC3_p236b"/>
          <p:cNvPicPr/>
          <p:nvPr/>
        </p:nvPicPr>
        <p:blipFill>
          <a:blip r:embed="rId1"/>
          <a:stretch/>
        </p:blipFill>
        <p:spPr>
          <a:xfrm>
            <a:off x="2519280" y="2286000"/>
            <a:ext cx="410544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-</a:t>
            </a:r>
            <a:fld id="{B049A2BF-2C02-48FF-A530-C3759252B0A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85440" y="15235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using the superlative of an adjective that precedes the noun it modifies, the superlative for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precedes the noun as w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852480" y="2819520"/>
          <a:ext cx="8001000" cy="286992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2869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us travaillez sur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 plus peti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dinateur de la fac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’re working on the smalles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uter on campus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-tu visité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s plus beaux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numents de la ville?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d you visit the most beautiful monuments in town?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Rectangle 14"/>
          <p:cNvSpPr/>
          <p:nvPr/>
        </p:nvSpPr>
        <p:spPr>
          <a:xfrm>
            <a:off x="1219320" y="609480"/>
            <a:ext cx="777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The comparative and superlative of adjectives and adverb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-</a:t>
            </a:r>
            <a:fld id="{DB1F3851-C063-4996-846F-7C77BE53DF4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djectiv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uva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irregular comparative and superlative 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4"/>
          <p:cNvSpPr/>
          <p:nvPr/>
        </p:nvSpPr>
        <p:spPr>
          <a:xfrm>
            <a:off x="685800" y="2514600"/>
            <a:ext cx="7924680" cy="2286000"/>
          </a:xfrm>
          <a:prstGeom prst="roundRect">
            <a:avLst>
              <a:gd name="adj" fmla="val 22347"/>
            </a:avLst>
          </a:prstGeom>
          <a:solidFill>
            <a:srgbClr val="fff0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5"/>
          <p:cNvSpPr/>
          <p:nvPr/>
        </p:nvSpPr>
        <p:spPr>
          <a:xfrm>
            <a:off x="685800" y="3429000"/>
            <a:ext cx="7924680" cy="2057400"/>
          </a:xfrm>
          <a:prstGeom prst="roundRect">
            <a:avLst>
              <a:gd name="adj" fmla="val 22347"/>
            </a:avLst>
          </a:prstGeom>
          <a:solidFill>
            <a:srgbClr val="fef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685800" y="3019320"/>
            <a:ext cx="7924680" cy="914400"/>
          </a:xfrm>
          <a:prstGeom prst="rect">
            <a:avLst/>
          </a:prstGeom>
          <a:solidFill>
            <a:srgbClr val="fef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914400" y="2590920"/>
          <a:ext cx="7848720" cy="2895480"/>
        </p:xfrm>
        <a:graphic>
          <a:graphicData uri="http://schemas.openxmlformats.org/drawingml/2006/table">
            <a:tbl>
              <a:tblPr/>
              <a:tblGrid>
                <a:gridCol w="2057400"/>
                <a:gridCol w="2590920"/>
                <a:gridCol w="3200400"/>
              </a:tblGrid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ectiv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rativ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lativ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81480">
                <a:tc>
                  <a:txBody>
                    <a:bodyPr lIns="90000" rIns="90000" tIns="137160" bIns="46800" anchor="t">
                      <a:noAutofit/>
                    </a:bodyPr>
                    <a:p>
                      <a:pPr marL="114480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n(ne)(s) </a:t>
                      </a: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uvais(e)(s) </a:t>
                      </a: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d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5da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37160" bIns="46800" anchor="t">
                      <a:noAutofit/>
                    </a:bodyPr>
                    <a:p>
                      <a:pPr marL="114480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illeur(e)(s) </a:t>
                      </a: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te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re(s) </a:t>
                      </a: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s mauvais(e)(s) </a:t>
                      </a: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s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5da9"/>
                      </a:solidFill>
                    </a:lnL>
                    <a:lnR w="13680">
                      <a:solidFill>
                        <a:srgbClr val="005da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37160" bIns="46800" anchor="t">
                      <a:noAutofit/>
                    </a:bodyPr>
                    <a:p>
                      <a:pPr marL="114480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/la/les meilleur(e)(s)  </a:t>
                      </a:r>
                      <a:br>
                        <a:rPr sz="2100"/>
                      </a:b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bes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/la/les pire(s) </a:t>
                      </a: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/la/les plus mauvais(e)(s) </a:t>
                      </a:r>
                      <a:br>
                        <a:rPr sz="2100"/>
                      </a:b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wors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5da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Rectangle 50"/>
          <p:cNvSpPr/>
          <p:nvPr/>
        </p:nvSpPr>
        <p:spPr>
          <a:xfrm>
            <a:off x="1219320" y="609480"/>
            <a:ext cx="769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The comparative and superlative of adjectives and adverb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-</a:t>
            </a:r>
            <a:fld id="{B48ECC15-14B1-450B-9C87-1A6E302B04A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09480" y="1930320"/>
          <a:ext cx="8244000" cy="2870280"/>
        </p:xfrm>
        <a:graphic>
          <a:graphicData uri="http://schemas.openxmlformats.org/drawingml/2006/table">
            <a:tbl>
              <a:tblPr/>
              <a:tblGrid>
                <a:gridCol w="3962520"/>
                <a:gridCol w="4281480"/>
              </a:tblGrid>
              <a:tr h="2870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jamel a acheté un télescope de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illeure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lité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jamel bought a better quality telescop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rlotte a écrit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 plus mauvais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ours de la class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rlotte wrote the worst speech in the class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Rectangle 15"/>
          <p:cNvSpPr/>
          <p:nvPr/>
        </p:nvSpPr>
        <p:spPr>
          <a:xfrm>
            <a:off x="1219320" y="609480"/>
            <a:ext cx="777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The comparative and superlative of adjectives and adverb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-</a:t>
            </a:r>
            <a:fld id="{984A24CC-79D3-472E-AA4D-75AFB2E8D38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da9"/>
                </a:solidFill>
                <a:latin typeface="Arial"/>
              </a:rPr>
              <a:t>Adver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comparing adverbs, plac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i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ss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ore the adverb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38200" y="3225960"/>
          <a:ext cx="8001000" cy="2869920"/>
        </p:xfrm>
        <a:graphic>
          <a:graphicData uri="http://schemas.openxmlformats.org/drawingml/2006/table">
            <a:tbl>
              <a:tblPr/>
              <a:tblGrid>
                <a:gridCol w="3719520"/>
                <a:gridCol w="4281480"/>
              </a:tblGrid>
              <a:tr h="2869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mane surfe sur le web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us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pidement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’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Émili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mane surfs the Web faster than Émili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 moteur de recherche va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ins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e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e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’autr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is search engine works less quickly than the other on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Rectangle 14"/>
          <p:cNvSpPr/>
          <p:nvPr/>
        </p:nvSpPr>
        <p:spPr>
          <a:xfrm>
            <a:off x="1219320" y="609480"/>
            <a:ext cx="777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The comparative and superlative of adjectives and adverb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9:11:18Z</dcterms:created>
  <dc:creator>© and ® 2011 Vista Higher Learning, Inc.</dc:creator>
  <dc:description/>
  <dc:language>en-US</dc:language>
  <cp:lastModifiedBy>Ursuline Academy</cp:lastModifiedBy>
  <dcterms:modified xsi:type="dcterms:W3CDTF">2015-02-09T15:23:39Z</dcterms:modified>
  <cp:revision>191</cp:revision>
  <dc:subject>D'accord! 3 • Leçon 7: Les sciences et la technologie</dc:subject>
  <dc:title>7.1 The comparative and superlative of adjectives and adverbs</dc:title>
</cp:coreProperties>
</file>